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5BE3-A9AC-4713-B506-4AF3DF92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E07-81F4-4C4B-AAD2-38C1E8FE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E18-5B18-41B5-A881-6A22B1E5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539-E4DF-4084-A011-F5A4B371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6E12-0D1B-40AA-8988-070A4645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1BED-FF5E-4BD0-BA44-2EEC767D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8332-2D06-47C9-8A71-AB15219D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F927-D2A2-416E-A555-114A4EFB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7F38-CF0E-4252-B5AE-934431F0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C52E-82D8-4E77-8DC7-7C44C16C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DE67-6970-4E19-8EAE-B04596FF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23B-A6B4-4250-AE5C-D0C2551A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BCA0-DD7F-4AB8-94AD-F5B52789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9998-83F0-4078-9770-C48EDCCE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EFEC-844C-4EB9-9027-27734B2B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9ABF-0EA4-4794-93CA-6EC7644E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34CD-3831-4FBF-8809-AA878B15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5C4-71F8-492D-8FCA-9B12E9FE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3BA-C168-4589-A255-2C0B1855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95B-62B5-4E62-A822-548CE2BE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600-F672-4F28-84D0-2ACD58B0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68C-C700-41E8-83AF-673EA955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F6B7-9DBD-41C3-BF54-385594E3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E1F-78A8-4657-AAA8-A81C02A1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34EC-C11F-43CB-A8BF-1E549160B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68C8-003B-4BCE-AAB4-980B22BB7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o Tell The Good News”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Early Church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1, Lesson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5:1 – 6: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29-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7371-3E29-4DA3-B79B-8EAA1F949543}" type="slidenum">
              <a:t>1</a:t>
            </a:fld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rejoiced for being able to suffer for Jesus’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ntinued daily in the temple to teach and preach Jesus Chr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Apostles Continue Their Work 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41-42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B34-32A7-40B6-B8BC-BCE6A34A9907}" type="slidenum">
              <a:t>10</a:t>
            </a:fld>
          </a:p>
        </p:txBody>
      </p:sp>
    </p:spTree>
  </p:cSld>
  <p:transition spd="med">
    <p:diamond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Grecian Jews Murmur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6:1-6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cians w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lenist, a Jew by birth who spoke Gr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a foreign Jew or prosely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rmuring began because the Grecian widows were being neg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ciples were told to find men of good report to oversee this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hose Stephen, Philip, Prochorus, Nicanor, Timon, Parmenas, and Nico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C23-6135-4426-AAA0-8DA9AE67D627}" type="slidenum">
              <a:t>11</a:t>
            </a:fld>
          </a:p>
        </p:txBody>
      </p:sp>
    </p:spTree>
  </p:cSld>
  <p:transition spd="med">
    <p:diamond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n the previous lesson..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ciples were with one heart and one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old their lands to help their needy breth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made the distrib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nabas sold a field and brought the money to the apo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E95-E27C-4A9A-90B3-5077590477CC}" type="slidenum">
              <a:t>2</a:t>
            </a:fld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nanias and Sapphira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1-11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ertain man, Ananias, with his wife’s knowledge, sold property and kept back part of the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nias pretended that he brought all the money he had received for the 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Ananias’ s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er told him that he had lied to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one person’s actions affect an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FE3-9DD6-4753-9CEC-D0260C0CE2FA}" type="slidenum">
              <a:t>3</a:t>
            </a:fld>
          </a:p>
        </p:txBody>
      </p:sp>
    </p:spTree>
  </p:cSld>
  <p:transition spd="med"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Apostles Continue Their Work 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12-16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worked many signs and wo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believers distanced themselves from the apo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tudes of believers were added to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sick and those with unclean spirits were hea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FE9-FDAF-4DD0-9786-B7B05D7F2525}" type="slidenum">
              <a:t>4</a:t>
            </a:fld>
          </a:p>
        </p:txBody>
      </p:sp>
    </p:spTree>
  </p:cSld>
  <p:transition spd="med">
    <p:diamond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Apostles Are Jailed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17-21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 priest and Sadducees were filled with indignation (fu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were put in pris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ngel of the Lo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them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cted them to teach in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that morning, they began to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E1A-C64A-463F-8948-8366F2DE8129}" type="slidenum">
              <a:t>5</a:t>
            </a:fld>
          </a:p>
        </p:txBody>
      </p:sp>
    </p:spTree>
  </p:cSld>
  <p:transition spd="med"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Apostles Are Found - Again</a:t>
            </a:r>
            <a:br>
              <a:rPr sz="36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21-26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anhedrin was assembled, they learned that the apostles were g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ail was still sec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told the apostles were teaching in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were again brought before the cou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045-9CFD-4550-BEAF-55C0CEC89A50}" type="slidenum">
              <a:t>6</a:t>
            </a:fld>
          </a:p>
        </p:txBody>
      </p:sp>
    </p:spTree>
  </p:cSld>
  <p:transition spd="med">
    <p:diamond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Apostles Are Accused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27-33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 priest told th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r we forbade you not to teach in Jesus’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intend to bring this man’s blood upon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ostles responde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ust obey God rather than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slew Jesus, God raised Hi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witnesses to these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uncil wanted to kill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ADC-C13C-4087-973F-23FC843C675E}" type="slidenum">
              <a:t>7</a:t>
            </a:fld>
          </a:p>
        </p:txBody>
      </p:sp>
    </p:spTree>
  </p:cSld>
  <p:transition spd="med">
    <p:diamond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amaliel Addressed The Council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34-39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ali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harisee, a doctor of the law, highly respected by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minded them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udas boasted himself to be some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slain and his 400 followers were scat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s of Galilee drew away much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perished and his followers disper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078-A910-418B-825C-FAEBEBB065E1}" type="slidenum">
              <a:t>8</a:t>
            </a:fld>
          </a:p>
        </p:txBody>
      </p:sp>
    </p:spTree>
  </p:cSld>
  <p:transition spd="med">
    <p:diamond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928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Gamaliel Addressed The Council</a:t>
            </a:r>
            <a:br>
              <a:rPr sz="40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cts 5:34-39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4596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ain from these men and let them al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reaso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is work be of men, it will not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be of God, you cannot overthr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uncil agreed b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hem b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ed them not to speak in Jesus’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y let them 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0C1-1798-470E-A5C3-5E439259A62E}" type="slidenum">
              <a:t>9</a:t>
            </a:fld>
          </a:p>
        </p:txBody>
      </p:sp>
    </p:spTree>
  </p:cSld>
  <p:transition spd="med">
    <p:diamond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39:45Z</dcterms:created>
  <dc:creator>Ray Cooley</dc:creator>
  <dc:description/>
  <dc:language>en-US</dc:language>
  <cp:lastModifiedBy>Frank D Vines</cp:lastModifiedBy>
  <dcterms:modified xsi:type="dcterms:W3CDTF">2007-01-21T14:37:15Z</dcterms:modified>
  <cp:revision>57</cp:revision>
  <dc:subject/>
  <dc:title>Life of Christ, Part 2 In Perea</dc:title>
</cp:coreProperties>
</file>